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093CF-5A4F-49EF-9D7A-2A8BDCC4C0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792936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38280" y="3845520"/>
            <a:ext cx="792936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E1F51-930C-4C37-9592-E0A3C22B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28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0124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F0E4D-0687-4C87-8844-A471B6D5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9560" y="209700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00480" y="209700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38280" y="384552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9560" y="384552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00480" y="384552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28343-0040-44AC-A3F6-721E3EEBF1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225C1-860A-45F8-AEAE-32F060B6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38280" y="2097000"/>
            <a:ext cx="7929360" cy="33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533B9-4753-4233-B060-51D0698C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792936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8763E-167B-4EF4-B16B-5E82AEE8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31CD9-4070-43DC-B180-A8BCDE8C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C88B4-991F-4B66-A6F5-477C04E6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189000"/>
            <a:ext cx="8110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36B06-5892-4875-88A3-D0374273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828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184EE-C663-49BA-B14C-3965C8FF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38280" y="2097000"/>
            <a:ext cx="7929360" cy="33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57FCD-EA64-410A-A2CD-A964AF47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0124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A4172-863C-4B77-BB16-34AD8CBA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8280" y="3845520"/>
            <a:ext cx="792936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CCEA5-1BAC-4B1B-8711-5548E0E7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792936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38280" y="3845520"/>
            <a:ext cx="792936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CCB9A-258E-4AD7-AAFD-F68DD3CC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828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0124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1985A-191C-4DC4-94D5-422BD34B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9560" y="209700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00480" y="209700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38280" y="384552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19560" y="384552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00480" y="384552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890D3-7698-4CCB-816D-CCBFE11A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792936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5FC4C-4BED-41E1-A3DE-CE6E1563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43137-C327-4287-8856-74650839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19575-D3B7-47B6-9E64-0866FB66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6840" y="189000"/>
            <a:ext cx="8110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11108-4B2E-445C-82F0-576D7148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828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F5D6D-2BE2-44BF-B8EB-0402C01D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0124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FA47-01C2-47F3-B596-D7F45CDE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8280" y="3845520"/>
            <a:ext cx="792936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13ACF-75DE-4208-8680-B0774CE6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2"/>
          <p:cNvSpPr/>
          <p:nvPr/>
        </p:nvSpPr>
        <p:spPr>
          <a:xfrm>
            <a:off x="-17640" y="6222960"/>
            <a:ext cx="9172800" cy="662040"/>
          </a:xfrm>
          <a:custGeom>
            <a:avLst/>
            <a:gdLst>
              <a:gd name="textAreaLeft" fmla="*/ 0 w 9172800"/>
              <a:gd name="textAreaRight" fmla="*/ 9173160 w 917280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5778" h="417">
                <a:moveTo>
                  <a:pt x="5771" y="403"/>
                </a:moveTo>
                <a:lnTo>
                  <a:pt x="4" y="417"/>
                </a:lnTo>
                <a:lnTo>
                  <a:pt x="0" y="24"/>
                </a:lnTo>
                <a:cubicBezTo>
                  <a:pt x="369" y="0"/>
                  <a:pt x="1255" y="261"/>
                  <a:pt x="2218" y="272"/>
                </a:cubicBezTo>
                <a:cubicBezTo>
                  <a:pt x="3181" y="283"/>
                  <a:pt x="5186" y="69"/>
                  <a:pt x="5778" y="91"/>
                </a:cubicBezTo>
                <a:lnTo>
                  <a:pt x="5771" y="403"/>
                </a:lnTo>
                <a:close/>
              </a:path>
            </a:pathLst>
          </a:custGeom>
          <a:solidFill>
            <a:srgbClr val="336599"/>
          </a:solidFill>
          <a:ln w="9360">
            <a:solidFill>
              <a:srgbClr val="336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11"/>
          <p:cNvSpPr/>
          <p:nvPr/>
        </p:nvSpPr>
        <p:spPr>
          <a:xfrm>
            <a:off x="-33480" y="-44280"/>
            <a:ext cx="9580680" cy="2172960"/>
          </a:xfrm>
          <a:custGeom>
            <a:avLst/>
            <a:gdLst>
              <a:gd name="textAreaLeft" fmla="*/ 0 w 9580680"/>
              <a:gd name="textAreaRight" fmla="*/ 9581040 w 9580680"/>
              <a:gd name="textAreaTop" fmla="*/ 0 h 2172960"/>
              <a:gd name="textAreaBottom" fmla="*/ 2173320 h 2172960"/>
            </a:gdLst>
            <a:ahLst/>
            <a:rect l="textAreaLeft" t="textAreaTop" r="textAreaRight" b="textAreaBottom"/>
            <a:pathLst>
              <a:path w="6035" h="1369">
                <a:moveTo>
                  <a:pt x="5" y="7"/>
                </a:moveTo>
                <a:lnTo>
                  <a:pt x="5816" y="0"/>
                </a:lnTo>
                <a:lnTo>
                  <a:pt x="5816" y="1249"/>
                </a:lnTo>
                <a:cubicBezTo>
                  <a:pt x="5691" y="1369"/>
                  <a:pt x="6035" y="772"/>
                  <a:pt x="5066" y="722"/>
                </a:cubicBezTo>
                <a:cubicBezTo>
                  <a:pt x="4097" y="672"/>
                  <a:pt x="843" y="1070"/>
                  <a:pt x="0" y="951"/>
                </a:cubicBezTo>
                <a:lnTo>
                  <a:pt x="5" y="7"/>
                </a:lnTo>
                <a:close/>
              </a:path>
            </a:pathLst>
          </a:custGeom>
          <a:solidFill>
            <a:srgbClr val="336599"/>
          </a:solidFill>
          <a:ln w="9360">
            <a:solidFill>
              <a:srgbClr val="336599"/>
            </a:solidFill>
            <a:round/>
          </a:ln>
          <a:effectLst>
            <a:outerShdw dist="88920" dir="5400000" blurRad="0" rotWithShape="0">
              <a:srgbClr val="b3cc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277920" y="6497640"/>
            <a:ext cx="2133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794640" y="6497640"/>
            <a:ext cx="2133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1268-E0CF-4438-A7A8-4D3167AD8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22"/>
          <p:cNvGrpSpPr/>
          <p:nvPr/>
        </p:nvGrpSpPr>
        <p:grpSpPr>
          <a:xfrm>
            <a:off x="7696080" y="5192640"/>
            <a:ext cx="1236960" cy="1440000"/>
            <a:chOff x="7696080" y="5192640"/>
            <a:chExt cx="1236960" cy="1440000"/>
          </a:xfrm>
        </p:grpSpPr>
        <p:grpSp>
          <p:nvGrpSpPr>
            <p:cNvPr id="6" name="Group 113"/>
            <p:cNvGrpSpPr/>
            <p:nvPr/>
          </p:nvGrpSpPr>
          <p:grpSpPr>
            <a:xfrm>
              <a:off x="7696080" y="5687640"/>
              <a:ext cx="944640" cy="945000"/>
              <a:chOff x="7696080" y="5687640"/>
              <a:chExt cx="944640" cy="945000"/>
            </a:xfrm>
          </p:grpSpPr>
          <p:sp>
            <p:nvSpPr>
              <p:cNvPr id="7" name="AutoShape 114"/>
              <p:cNvSpPr/>
              <p:nvPr/>
            </p:nvSpPr>
            <p:spPr>
              <a:xfrm>
                <a:off x="7696080" y="5687640"/>
                <a:ext cx="944640" cy="945000"/>
              </a:xfrm>
              <a:custGeom>
                <a:avLst/>
                <a:gdLst>
                  <a:gd name="textAreaLeft" fmla="*/ 138600 w 944640"/>
                  <a:gd name="textAreaRight" fmla="*/ 806400 w 944640"/>
                  <a:gd name="textAreaTop" fmla="*/ 138600 h 945000"/>
                  <a:gd name="textAreaBottom" fmla="*/ 806400 h 94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6698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AutoShape 115"/>
              <p:cNvSpPr/>
              <p:nvPr/>
            </p:nvSpPr>
            <p:spPr>
              <a:xfrm>
                <a:off x="7902360" y="5893920"/>
                <a:ext cx="531720" cy="532080"/>
              </a:xfrm>
              <a:custGeom>
                <a:avLst/>
                <a:gdLst>
                  <a:gd name="textAreaLeft" fmla="*/ 77400 w 531720"/>
                  <a:gd name="textAreaRight" fmla="*/ 454320 w 531720"/>
                  <a:gd name="textAreaTop" fmla="*/ 77400 h 532080"/>
                  <a:gd name="textAreaBottom" fmla="*/ 454680 h 532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6698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" name="Group 116"/>
            <p:cNvGrpSpPr/>
            <p:nvPr/>
          </p:nvGrpSpPr>
          <p:grpSpPr>
            <a:xfrm>
              <a:off x="8595360" y="5800320"/>
              <a:ext cx="281160" cy="281160"/>
              <a:chOff x="8595360" y="5800320"/>
              <a:chExt cx="281160" cy="281160"/>
            </a:xfrm>
          </p:grpSpPr>
          <p:sp>
            <p:nvSpPr>
              <p:cNvPr id="10" name="AutoShape 117"/>
              <p:cNvSpPr/>
              <p:nvPr/>
            </p:nvSpPr>
            <p:spPr>
              <a:xfrm>
                <a:off x="8595360" y="5800320"/>
                <a:ext cx="281160" cy="281160"/>
              </a:xfrm>
              <a:custGeom>
                <a:avLst/>
                <a:gdLst>
                  <a:gd name="textAreaLeft" fmla="*/ 41040 w 281160"/>
                  <a:gd name="textAreaRight" fmla="*/ 240120 w 281160"/>
                  <a:gd name="textAreaTop" fmla="*/ 41040 h 281160"/>
                  <a:gd name="textAreaBottom" fmla="*/ 240120 h 281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6698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AutoShape 118"/>
              <p:cNvSpPr/>
              <p:nvPr/>
            </p:nvSpPr>
            <p:spPr>
              <a:xfrm>
                <a:off x="8656560" y="5861520"/>
                <a:ext cx="158400" cy="158400"/>
              </a:xfrm>
              <a:custGeom>
                <a:avLst/>
                <a:gdLst>
                  <a:gd name="textAreaLeft" fmla="*/ 23040 w 158400"/>
                  <a:gd name="textAreaRight" fmla="*/ 135360 w 158400"/>
                  <a:gd name="textAreaTop" fmla="*/ 23040 h 158400"/>
                  <a:gd name="textAreaBottom" fmla="*/ 135360 h 158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6698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" name="Group 119"/>
            <p:cNvGrpSpPr/>
            <p:nvPr/>
          </p:nvGrpSpPr>
          <p:grpSpPr>
            <a:xfrm>
              <a:off x="8291880" y="5192640"/>
              <a:ext cx="641160" cy="641520"/>
              <a:chOff x="8291880" y="5192640"/>
              <a:chExt cx="641160" cy="641520"/>
            </a:xfrm>
          </p:grpSpPr>
          <p:sp>
            <p:nvSpPr>
              <p:cNvPr id="13" name="AutoShape 120"/>
              <p:cNvSpPr/>
              <p:nvPr/>
            </p:nvSpPr>
            <p:spPr>
              <a:xfrm>
                <a:off x="8291880" y="5192640"/>
                <a:ext cx="641160" cy="641520"/>
              </a:xfrm>
              <a:custGeom>
                <a:avLst/>
                <a:gdLst>
                  <a:gd name="textAreaLeft" fmla="*/ 93960 w 641160"/>
                  <a:gd name="textAreaRight" fmla="*/ 547200 w 641160"/>
                  <a:gd name="textAreaTop" fmla="*/ 93960 h 641520"/>
                  <a:gd name="textAreaBottom" fmla="*/ 547560 h 64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6698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AutoShape 121"/>
              <p:cNvSpPr/>
              <p:nvPr/>
            </p:nvSpPr>
            <p:spPr>
              <a:xfrm>
                <a:off x="8431920" y="5332680"/>
                <a:ext cx="361080" cy="361080"/>
              </a:xfrm>
              <a:custGeom>
                <a:avLst/>
                <a:gdLst>
                  <a:gd name="textAreaLeft" fmla="*/ 52560 w 361080"/>
                  <a:gd name="textAreaRight" fmla="*/ 308520 w 361080"/>
                  <a:gd name="textAreaTop" fmla="*/ 52560 h 361080"/>
                  <a:gd name="textAreaBottom" fmla="*/ 308520 h 36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6698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" name="PlaceHolder 4"/>
          <p:cNvSpPr>
            <a:spLocks noGrp="1"/>
          </p:cNvSpPr>
          <p:nvPr>
            <p:ph type="body"/>
          </p:nvPr>
        </p:nvSpPr>
        <p:spPr>
          <a:xfrm>
            <a:off x="638280" y="2097000"/>
            <a:ext cx="7929360" cy="3347640"/>
          </a:xfrm>
          <a:prstGeom prst="rect">
            <a:avLst/>
          </a:prstGeom>
          <a:solidFill>
            <a:srgbClr val="336599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reeform 58"/>
          <p:cNvSpPr/>
          <p:nvPr/>
        </p:nvSpPr>
        <p:spPr>
          <a:xfrm>
            <a:off x="-33480" y="-33480"/>
            <a:ext cx="9577440" cy="6818400"/>
          </a:xfrm>
          <a:custGeom>
            <a:avLst/>
            <a:gdLst>
              <a:gd name="textAreaLeft" fmla="*/ 0 w 9577440"/>
              <a:gd name="textAreaRight" fmla="*/ 9577800 w 9577440"/>
              <a:gd name="textAreaTop" fmla="*/ 0 h 6818400"/>
              <a:gd name="textAreaBottom" fmla="*/ 6818760 h 6818400"/>
            </a:gdLst>
            <a:ahLst/>
            <a:rect l="textAreaLeft" t="textAreaTop" r="textAreaRight" b="textAreaBottom"/>
            <a:pathLst>
              <a:path w="6033" h="4295">
                <a:moveTo>
                  <a:pt x="5" y="0"/>
                </a:moveTo>
                <a:lnTo>
                  <a:pt x="5802" y="14"/>
                </a:lnTo>
                <a:lnTo>
                  <a:pt x="5802" y="3905"/>
                </a:lnTo>
                <a:cubicBezTo>
                  <a:pt x="5679" y="4295"/>
                  <a:pt x="6033" y="2484"/>
                  <a:pt x="5066" y="2352"/>
                </a:cubicBezTo>
                <a:cubicBezTo>
                  <a:pt x="4099" y="2221"/>
                  <a:pt x="843" y="3497"/>
                  <a:pt x="0" y="3106"/>
                </a:cubicBezTo>
                <a:lnTo>
                  <a:pt x="5" y="0"/>
                </a:lnTo>
                <a:close/>
              </a:path>
            </a:pathLst>
          </a:custGeom>
          <a:solidFill>
            <a:srgbClr val="336599"/>
          </a:solidFill>
          <a:ln w="9360">
            <a:solidFill>
              <a:srgbClr val="336599"/>
            </a:solidFill>
            <a:round/>
          </a:ln>
          <a:effectLst>
            <a:outerShdw dist="88920" dir="5400000" blurRad="0" rotWithShape="0">
              <a:srgbClr val="b3cc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93"/>
          <p:cNvGrpSpPr/>
          <p:nvPr/>
        </p:nvGrpSpPr>
        <p:grpSpPr>
          <a:xfrm>
            <a:off x="6076800" y="152280"/>
            <a:ext cx="2846520" cy="3312720"/>
            <a:chOff x="6076800" y="152280"/>
            <a:chExt cx="2846520" cy="3312720"/>
          </a:xfrm>
        </p:grpSpPr>
        <p:grpSp>
          <p:nvGrpSpPr>
            <p:cNvPr id="54" name="Group 84"/>
            <p:cNvGrpSpPr/>
            <p:nvPr/>
          </p:nvGrpSpPr>
          <p:grpSpPr>
            <a:xfrm>
              <a:off x="6076800" y="1291320"/>
              <a:ext cx="2172960" cy="2173680"/>
              <a:chOff x="6076800" y="1291320"/>
              <a:chExt cx="2172960" cy="2173680"/>
            </a:xfrm>
          </p:grpSpPr>
          <p:sp>
            <p:nvSpPr>
              <p:cNvPr id="55" name="AutoShape 85"/>
              <p:cNvSpPr/>
              <p:nvPr/>
            </p:nvSpPr>
            <p:spPr>
              <a:xfrm>
                <a:off x="6076800" y="1291320"/>
                <a:ext cx="2172960" cy="2173680"/>
              </a:xfrm>
              <a:custGeom>
                <a:avLst/>
                <a:gdLst>
                  <a:gd name="textAreaLeft" fmla="*/ 318600 w 2172960"/>
                  <a:gd name="textAreaRight" fmla="*/ 1854360 w 2172960"/>
                  <a:gd name="textAreaTop" fmla="*/ 318600 h 2173680"/>
                  <a:gd name="textAreaBottom" fmla="*/ 1855080 h 217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3365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AutoShape 86"/>
              <p:cNvSpPr/>
              <p:nvPr/>
            </p:nvSpPr>
            <p:spPr>
              <a:xfrm>
                <a:off x="6551280" y="1765800"/>
                <a:ext cx="1223280" cy="1224000"/>
              </a:xfrm>
              <a:custGeom>
                <a:avLst/>
                <a:gdLst>
                  <a:gd name="textAreaLeft" fmla="*/ 178200 w 1223280"/>
                  <a:gd name="textAreaRight" fmla="*/ 1045080 w 1223280"/>
                  <a:gd name="textAreaTop" fmla="*/ 178200 h 1224000"/>
                  <a:gd name="textAreaBottom" fmla="*/ 1045800 h 12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3365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" name="Group 87"/>
            <p:cNvGrpSpPr/>
            <p:nvPr/>
          </p:nvGrpSpPr>
          <p:grpSpPr>
            <a:xfrm>
              <a:off x="8146080" y="1550160"/>
              <a:ext cx="646920" cy="646920"/>
              <a:chOff x="8146080" y="1550160"/>
              <a:chExt cx="646920" cy="646920"/>
            </a:xfrm>
          </p:grpSpPr>
          <p:sp>
            <p:nvSpPr>
              <p:cNvPr id="58" name="AutoShape 88"/>
              <p:cNvSpPr/>
              <p:nvPr/>
            </p:nvSpPr>
            <p:spPr>
              <a:xfrm>
                <a:off x="8146080" y="1550160"/>
                <a:ext cx="646920" cy="646920"/>
              </a:xfrm>
              <a:custGeom>
                <a:avLst/>
                <a:gdLst>
                  <a:gd name="textAreaLeft" fmla="*/ 94680 w 646920"/>
                  <a:gd name="textAreaRight" fmla="*/ 552240 w 646920"/>
                  <a:gd name="textAreaTop" fmla="*/ 94680 h 646920"/>
                  <a:gd name="textAreaBottom" fmla="*/ 552240 h 64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3365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AutoShape 89"/>
              <p:cNvSpPr/>
              <p:nvPr/>
            </p:nvSpPr>
            <p:spPr>
              <a:xfrm>
                <a:off x="8287200" y="1691280"/>
                <a:ext cx="364320" cy="364320"/>
              </a:xfrm>
              <a:custGeom>
                <a:avLst/>
                <a:gdLst>
                  <a:gd name="textAreaLeft" fmla="*/ 52920 w 364320"/>
                  <a:gd name="textAreaRight" fmla="*/ 311400 w 364320"/>
                  <a:gd name="textAreaTop" fmla="*/ 52920 h 364320"/>
                  <a:gd name="textAreaBottom" fmla="*/ 311400 h 36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3365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90"/>
            <p:cNvGrpSpPr/>
            <p:nvPr/>
          </p:nvGrpSpPr>
          <p:grpSpPr>
            <a:xfrm>
              <a:off x="7448040" y="152280"/>
              <a:ext cx="1475280" cy="1475640"/>
              <a:chOff x="7448040" y="152280"/>
              <a:chExt cx="1475280" cy="1475640"/>
            </a:xfrm>
          </p:grpSpPr>
          <p:sp>
            <p:nvSpPr>
              <p:cNvPr id="61" name="AutoShape 91"/>
              <p:cNvSpPr/>
              <p:nvPr/>
            </p:nvSpPr>
            <p:spPr>
              <a:xfrm>
                <a:off x="7448040" y="152280"/>
                <a:ext cx="1475280" cy="1475640"/>
              </a:xfrm>
              <a:custGeom>
                <a:avLst/>
                <a:gdLst>
                  <a:gd name="textAreaLeft" fmla="*/ 216360 w 1475280"/>
                  <a:gd name="textAreaRight" fmla="*/ 1258920 w 1475280"/>
                  <a:gd name="textAreaTop" fmla="*/ 216360 h 1475640"/>
                  <a:gd name="textAreaBottom" fmla="*/ 1259280 h 147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3365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AutoShape 92"/>
              <p:cNvSpPr/>
              <p:nvPr/>
            </p:nvSpPr>
            <p:spPr>
              <a:xfrm>
                <a:off x="7769880" y="474480"/>
                <a:ext cx="830520" cy="830880"/>
              </a:xfrm>
              <a:custGeom>
                <a:avLst/>
                <a:gdLst>
                  <a:gd name="textAreaLeft" fmla="*/ 120960 w 830520"/>
                  <a:gd name="textAreaRight" fmla="*/ 709560 w 830520"/>
                  <a:gd name="textAreaTop" fmla="*/ 120960 h 830880"/>
                  <a:gd name="textAreaBottom" fmla="*/ 709920 h 83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3365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38280" y="2097000"/>
            <a:ext cx="7929360" cy="3347640"/>
          </a:xfrm>
          <a:prstGeom prst="rect">
            <a:avLst/>
          </a:prstGeom>
          <a:solidFill>
            <a:srgbClr val="336599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45684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4"/>
          </p:nvPr>
        </p:nvSpPr>
        <p:spPr>
          <a:xfrm>
            <a:off x="3124080" y="6605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5"/>
          </p:nvPr>
        </p:nvSpPr>
        <p:spPr>
          <a:xfrm>
            <a:off x="687672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45F2-0F66-4D2E-967F-55C0E470C3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91640" y="1881000"/>
            <a:ext cx="558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obot, walk that line!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GB" sz="2800" spc="-1" strike="noStrike" baseline="60000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00720" y="4689360"/>
            <a:ext cx="4319280" cy="13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day of justi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4 August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Grafik 8" descr="logoBEST.png"/>
          <p:cNvPicPr/>
          <p:nvPr/>
        </p:nvPicPr>
        <p:blipFill>
          <a:blip r:embed="rId1"/>
          <a:stretch/>
        </p:blipFill>
        <p:spPr>
          <a:xfrm>
            <a:off x="428760" y="5715000"/>
            <a:ext cx="1400040" cy="71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EST Team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52480" y="2181240"/>
            <a:ext cx="6138360" cy="3348000"/>
          </a:xfrm>
          <a:prstGeom prst="rect">
            <a:avLst/>
          </a:prstGeom>
          <a:solidFill>
            <a:srgbClr val="336599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abbits &amp; Two Hats” tea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ssandro Colom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zegorz Marzenc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ladimir Kot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Grafik 4" descr="robot_right_s.png"/>
          <p:cNvPicPr/>
          <p:nvPr/>
        </p:nvPicPr>
        <p:blipFill>
          <a:blip r:embed="rId1"/>
          <a:stretch/>
        </p:blipFill>
        <p:spPr>
          <a:xfrm>
            <a:off x="428760" y="1571760"/>
            <a:ext cx="884160" cy="4419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ow it wor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Grafik 5" descr="P1020824.JPG"/>
          <p:cNvPicPr/>
          <p:nvPr/>
        </p:nvPicPr>
        <p:blipFill>
          <a:blip r:embed="rId1"/>
          <a:stretch/>
        </p:blipFill>
        <p:spPr>
          <a:xfrm>
            <a:off x="781200" y="4138560"/>
            <a:ext cx="3297240" cy="247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03920" y="1761120"/>
            <a:ext cx="7764120" cy="2192040"/>
          </a:xfrm>
          <a:prstGeom prst="rect">
            <a:avLst/>
          </a:prstGeom>
          <a:solidFill>
            <a:srgbClr val="336599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ree line sen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front sensor for obstacle avo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stacle avoidance via path with fixed length legs + line sear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amping objects at the end of the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Grafik 6" descr="P1020823.JPG"/>
          <p:cNvPicPr/>
          <p:nvPr/>
        </p:nvPicPr>
        <p:blipFill>
          <a:blip r:embed="rId2"/>
          <a:stretch/>
        </p:blipFill>
        <p:spPr>
          <a:xfrm>
            <a:off x="4352760" y="4138560"/>
            <a:ext cx="3248280" cy="2438280"/>
          </a:xfrm>
          <a:prstGeom prst="rect">
            <a:avLst/>
          </a:prstGeom>
          <a:ln w="0">
            <a:noFill/>
          </a:ln>
        </p:spPr>
      </p:pic>
      <p:sp>
        <p:nvSpPr>
          <p:cNvPr id="114" name="Rechteck 10"/>
          <p:cNvSpPr/>
          <p:nvPr/>
        </p:nvSpPr>
        <p:spPr>
          <a:xfrm>
            <a:off x="5429160" y="5286240"/>
            <a:ext cx="1214640" cy="500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feld 11"/>
          <p:cNvSpPr/>
          <p:nvPr/>
        </p:nvSpPr>
        <p:spPr>
          <a:xfrm>
            <a:off x="5650200" y="578628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Arial"/>
              </a:rPr>
              <a:t>Line sens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hteck 12"/>
          <p:cNvSpPr/>
          <p:nvPr/>
        </p:nvSpPr>
        <p:spPr>
          <a:xfrm>
            <a:off x="1928880" y="4929120"/>
            <a:ext cx="500040" cy="428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feld 13"/>
          <p:cNvSpPr/>
          <p:nvPr/>
        </p:nvSpPr>
        <p:spPr>
          <a:xfrm>
            <a:off x="1795680" y="428616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Front IR sen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hteck 21"/>
          <p:cNvSpPr/>
          <p:nvPr/>
        </p:nvSpPr>
        <p:spPr>
          <a:xfrm>
            <a:off x="785880" y="4572000"/>
            <a:ext cx="1071360" cy="1428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feld 22"/>
          <p:cNvSpPr/>
          <p:nvPr/>
        </p:nvSpPr>
        <p:spPr>
          <a:xfrm>
            <a:off x="864720" y="60008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Clam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iggest challen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5520" y="2270160"/>
            <a:ext cx="7720920" cy="2590200"/>
          </a:xfrm>
          <a:prstGeom prst="rect">
            <a:avLst/>
          </a:prstGeom>
          <a:solidFill>
            <a:srgbClr val="336599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rrect alignment at the end of the path (won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rrect tuning of obstacle avoidance path (won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2C 5-LED module for line following (lost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pecial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5520" y="2270160"/>
            <a:ext cx="7720920" cy="2590200"/>
          </a:xfrm>
          <a:prstGeom prst="rect">
            <a:avLst/>
          </a:prstGeom>
          <a:solidFill>
            <a:srgbClr val="336599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abs an object at the end of the 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urns 180 d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alks the path back to the starting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leases the object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9:52:17Z</dcterms:created>
  <dc:creator>Presentation Helper</dc:creator>
  <dc:description/>
  <dc:language>en-US</dc:language>
  <cp:lastModifiedBy>robotic</cp:lastModifiedBy>
  <dcterms:modified xsi:type="dcterms:W3CDTF">2009-08-13T15:10:55Z</dcterms:modified>
  <cp:revision>22</cp:revision>
  <dc:subject/>
  <dc:title>Circles Blue Template</dc:title>
</cp:coreProperties>
</file>